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tif" ContentType="image/tiff"/>
  <Override PartName="/ppt/media/image12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163-8B8D-432B-BB65-5FE62BCA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5EA-7439-4366-8C3A-FBD47DB2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0E0-EE1D-4746-B4AD-DD9742DA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FCA-6642-4C52-9E73-5DFFE82A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C2E-D034-443E-B2B5-485001F2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1E7-E072-4013-A1C0-9AD4190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A13-98DC-44AD-8999-FF69B54B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720-9C94-475E-853C-A690A82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935-BD92-411C-8016-AFE4A67E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6AA-CD3E-4326-9664-404200C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1AC-2A77-4B54-B603-6C941321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1D7-F4DF-4111-9410-D1BFB44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1EB2-9DFA-42C0-83FB-A2A6EAC003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t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grimm1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bs01157_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153460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4764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laender4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karteHessen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rueder_GrimmKassel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märchen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dortchengrimm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ag00320_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bd08149_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unigoett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8" descr="bd06328_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j0118665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hochschuleberlin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g00428_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jakob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601grimm_grab_285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bk00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Haensel01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aensel02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Rapunzel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asche9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6368_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wolf4_small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rot3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dorn7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rosch3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Frau Ho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06560" y="1343160"/>
            <a:ext cx="53308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anau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steinau1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teinau3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inau2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bd06263_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rimmmuseumkassel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Kassel_Stich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marburg-impression-1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Shelby Harrison</cp:lastModifiedBy>
  <dcterms:modified xsi:type="dcterms:W3CDTF">2018-02-16T11:49:15Z</dcterms:modified>
  <cp:revision>31</cp:revision>
  <dc:subject/>
  <dc:title>Die Brüder Grimm</dc:title>
</cp:coreProperties>
</file>